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kal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1360" y="549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61" idx="3"/>
            <a:endCxn id="16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55440" y="54936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hif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</a:t>
            </a:r>
            <a:r>
              <a:rPr b="0" lang="de-DE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Insul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5" idx="3"/>
            <a:endCxn id="16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69" name=""/>
          <p:cNvCxnSpPr>
            <a:stCxn id="165" idx="3"/>
            <a:endCxn id="16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1039320" y="549360"/>
            <a:ext cx="59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Translok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ufnahme in die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920" y="639684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hift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549360"/>
            <a:ext cx="71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Aufnahme in die Zellen ↑ &gt; Shif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egen H</a:t>
            </a:r>
            <a:r>
              <a:rPr b="1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3"/>
            <a:endCxn id="17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lkal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HC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-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0280" y="6120000"/>
            <a:ext cx="196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CO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= Bikarbona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2680" y="549360"/>
            <a:ext cx="79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Aufnahme in die Zellen ↑ &gt; 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nsul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3"/>
            <a:endCxn id="18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abe von Insuli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sulin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922680" y="54936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1960" y="549360"/>
            <a:ext cx="43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3"/>
            <a:endCxn id="11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Diuretika,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 .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2680" y="54936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en 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3"/>
            <a:endCxn id="1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rbrech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urch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 flipV="1">
            <a:off x="3313080" y="2731680"/>
            <a:ext cx="2689920" cy="13500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5" idx="3"/>
            <a:endCxn id="126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0" name=""/>
          <p:cNvCxnSpPr>
            <a:stCxn id="125" idx="3"/>
            <a:endCxn id="131" idx="1"/>
          </p:cNvCxnSpPr>
          <p:nvPr/>
        </p:nvCxnSpPr>
        <p:spPr>
          <a:xfrm>
            <a:off x="3313080" y="4080960"/>
            <a:ext cx="2689920" cy="1351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6012000" y="216864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ore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9520" y="5493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869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alium-arm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usio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000800" y="549360"/>
            <a:ext cx="48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4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4" name=""/>
          <p:cNvCxnSpPr>
            <a:stCxn id="141" idx="3"/>
            <a:endCxn id="145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okrin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kreas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llensäure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ch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lesta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9000" y="549360"/>
            <a:ext cx="65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Maldiges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9" idx="3"/>
            <a:endCxn id="150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5600" y="549360"/>
            <a:ext cx="65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labsorp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3" idx="3"/>
            <a:endCxn id="155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56" name=""/>
          <p:cNvCxnSpPr>
            <a:stCxn id="153" idx="3"/>
            <a:endCxn id="157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fall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parasi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rm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4880" y="549360"/>
            <a:ext cx="67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fnahme ↓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Malassimil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labsorp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chädigung der Darmw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30:05Z</dcterms:modified>
  <cp:revision>335</cp:revision>
  <dc:subject/>
  <dc:title>Vorstellung einer Neuheit</dc:title>
</cp:coreProperties>
</file>